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ADE5-9C2B-44B3-B921-4F2D9C67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3CA-BA4E-4CC5-B6FD-D4513D9C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DB4-968C-4A07-8433-1403FC06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261-DA45-4086-92E4-52545232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64BA-55BE-4EC9-93B8-41CD95B9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A79-35C4-42C0-84F5-3190E852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6BB-D6DE-495E-9629-3D75C96C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504-80FE-412A-9303-D3753E80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70A-E500-4485-9BF4-3F85936C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83B-8B27-410D-A1B1-303ECA0A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AF9-3FE4-4426-880A-41B97A1E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24B-F7D2-4A2A-986D-CF8A24AF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74DA-2832-4B71-A9CD-F64E68677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469080" y="5335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2359080" y="847800"/>
            <a:ext cx="477360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457200" y="2438280"/>
          <a:ext cx="8458200" cy="213372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13480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y 5:  Collaborate with members of the class on special holidays, food, and dress attire that you celebrate within your culture.  Two posts are required and due on Friday.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Using teacher’s blo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Rectangle 6"/>
          <p:cNvSpPr/>
          <p:nvPr/>
        </p:nvSpPr>
        <p:spPr>
          <a:xfrm>
            <a:off x="1447920" y="5181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ttp://gwentech.edublogs.org/2013/04/16/my-cultur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280" y="1295280"/>
          <a:ext cx="8534520" cy="88452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8845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Times New Roman"/>
                        </a:rPr>
                        <a:t>You will have a week to complete the podcast projec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Create a personal podcast on your culture-- include the follow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228600" y="2514600"/>
          <a:ext cx="8458200" cy="301788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301788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y 1-2:  Discuss any special or important events about your culture e.g. dance, religion, food, holiday, dress attire, hairstyle, drink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y 3-4:  Work independently creating a podcast using iMovie video program. Include the following: at least four pictures, create two sounds using Garageband, create a voice narration using iMovie for each picture, and add transition to each pictur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y 5:  Render movie, save it in your personal folder on your desktop, and import on teacher’s blo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Rectangle 5" descr=""/>
          <p:cNvPicPr/>
          <p:nvPr/>
        </p:nvPicPr>
        <p:blipFill>
          <a:blip r:embed="rId1"/>
          <a:stretch/>
        </p:blipFill>
        <p:spPr>
          <a:xfrm>
            <a:off x="1968480" y="6480"/>
            <a:ext cx="5091120" cy="907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4449600" y="90360"/>
            <a:ext cx="24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447920" y="62118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http://multimediaactivtyga.wikispaces.com/Rubric+for+Pod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1143000" y="56386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LICK LINK BELOW TO VIEW RUBRIC FOR PO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0:05:41Z</dcterms:created>
  <dc:creator>HISD</dc:creator>
  <dc:description/>
  <dc:language>en-US</dc:language>
  <cp:lastModifiedBy>HISD</cp:lastModifiedBy>
  <dcterms:modified xsi:type="dcterms:W3CDTF">2013-04-16T23:37:42Z</dcterms:modified>
  <cp:revision>13</cp:revision>
  <dc:subject/>
  <dc:title>Slide 1</dc:title>
</cp:coreProperties>
</file>